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AA0-1CB9-4CA4-83EB-4B53635A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F45-3B75-4B67-99F4-D2E04A65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05B-898B-4A28-B879-55D45ECE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FB6-65B3-4069-83EB-5F0EEC0F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083F-3F90-41D6-8C1E-A683B535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89CC-79B1-4A96-8652-14A83153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6CAF-663D-468A-A700-9A183DFE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F9F6-B24F-4CC6-BF5F-1ACABD84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4080-AF09-4B64-8161-346E3385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C5A6-A57C-4EF5-8DAA-5F7C9FDD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2D25-C342-4D0C-9628-E11B082C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CC7-6BD6-492A-A602-8208A710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2129-9EDD-4B9C-8FC2-2C0ADC6D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EA3F-18B2-42D3-A464-678C8086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3249-B81C-43B4-B532-5E551374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BC7E-9A95-42C0-9CA2-20752B32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7F41-6B40-474F-97A5-EAF36221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AEE-C667-4C64-8850-B4A355DA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77A-FBC1-4E6C-839F-3391BA6E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17F-B6C3-4384-A77F-64C52118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174-516C-4509-9DE1-8D5F6EFE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038-3112-4866-8C66-3098C2EA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E41-E37F-4AD0-80FF-33F4E70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F6E-742D-4386-9C2F-306F5F28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2F6F-FDC1-47F5-BD9D-29B774B4EA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5933-E416-476E-845A-93F93AE065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二章  国际金融市场一体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financial Integ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金融市场一体化的涵义、原因及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金融市场一体化的涵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从分散走向整体的过程与状态。包括三个层次的内涵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的关联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inkages between mark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之间的交易手数和交易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number and volume of trans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利率决定机制与利率趋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ate-setting mechanis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二、国际金融市场一体化的原因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的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进步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自由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构投资者投资需求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货币体系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、国际金融市场一体化的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积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加快了金融信息传递，提高了金融市场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选择性，满足了各种金融需求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的流动性，提高了资本配置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国际贸易，调节国际收支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消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削弱了各国货币政策自主性，降低了政策效力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导致金融资产价格过度波动，增大风险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加了金融市场脆弱性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二节  国际金融市场一体化的内容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市场关联链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地理障碍的消除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中的资金清算系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各类金融市场的一体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外汇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短期资金融通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资本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债券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股票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中长期国际融资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衍生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国际金融市场资产价格的相关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三节  国际金融市场结构变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国际金融市场的体制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体制上划分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传统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地理分布多样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市场形成并迅速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国际金融市场的运行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次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围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49:12Z</dcterms:created>
  <dc:creator>MS User</dc:creator>
  <dc:description/>
  <dc:language>en-US</dc:language>
  <cp:lastModifiedBy>Dell</cp:lastModifiedBy>
  <dcterms:modified xsi:type="dcterms:W3CDTF">2021-08-23T22:51:07Z</dcterms:modified>
  <cp:revision>13</cp:revision>
  <dc:subject/>
  <dc:title>第七章  国际金融市场一体化</dc:title>
</cp:coreProperties>
</file>